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B781-64DB-4676-B5CD-9D49DCF1C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7368-B8F0-4A75-8C29-C2C746EDE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03FA-1C90-4277-A440-4C5E2C660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6730-7DFF-4476-AE8C-DB1DD5E67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B7D3E-D41A-487B-A71D-18913644C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544F6-ED38-4F43-B0C5-755F0469B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40C04-9920-4FF8-BA0C-D53EE3F7D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C18CA-77C8-40E6-B422-35354D59B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70326-4AD3-4494-9DAD-7662EF80D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95DB6-BA8E-467F-9AD5-2CCC7C102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1D14B-DD12-4A84-926B-18F4C4FB2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2B51-4EA4-42A2-9C0B-309D07F66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DE0B1-2D09-4358-BB47-BA4A75992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1ACEC-6FC0-4DA5-B820-949CB67E3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A90D0-2951-49E5-AE74-71E367C4C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E6478-D2B5-4442-B586-E73980F19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FD0DA-F687-46E0-94F0-9841B73AC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D66C-F3B8-4F23-B25D-69571B9DC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79A0-4E3A-4C89-9432-70FC1C866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284E-0858-41BD-B269-4509B47C5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C2E3-3304-43BA-B561-E23321915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D53E-B0D2-4C66-94C2-9B5DE04A0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DD89-2A32-4C72-9AF3-973939882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0DF0-8A73-4404-8B4B-EEBBA3A11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6B4A9-C823-438D-A40C-F06E1C1066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458A7-956C-4A71-8C22-9D629FF366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장 정서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-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행동장애아 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1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정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 시행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서장애에 자폐를 포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체 정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장애 아동협회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자폐시민협회의 자폐증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증과 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등에 대한 특수교육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원인 및 출현율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서와 행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각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0.55%, 0.15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생물학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손상과 뇌기능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가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3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분류체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열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으로 부적절하거나 미숙한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 위축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공격적인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국 정신의학회의 정신장애진단 및 통계편람</a:t>
            </a: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(DSM-IV)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전반적 발달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주의력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결핍 및 파괴적 행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유아기 또는 초기 아동기 급식 및 섭식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틱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배설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리불안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선택적 함묵증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애착장애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운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통계적 분류체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외부지향성 및 내부지향성 행동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4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 정서행동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적응행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업성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폐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극 과잉선택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낮은 동기유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기자극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강화와 결과에 대한 독특한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5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진단평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선별검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검목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checklist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투사검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접 관찰과 행동 측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 및 중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계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 행동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물 치료와 교육의 병행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 하세요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3" name="Picture 4" descr="MCj04042630000[1]"/>
          <p:cNvPicPr/>
          <p:nvPr/>
        </p:nvPicPr>
        <p:blipFill>
          <a:blip r:embed="rId1"/>
          <a:stretch/>
        </p:blipFill>
        <p:spPr>
          <a:xfrm>
            <a:off x="2627280" y="1844640"/>
            <a:ext cx="43927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15:10:29Z</dcterms:created>
  <dc:creator>.</dc:creator>
  <dc:description/>
  <dc:language>en-US</dc:language>
  <cp:lastModifiedBy>sec</cp:lastModifiedBy>
  <dcterms:modified xsi:type="dcterms:W3CDTF">2010-01-11T00:15:28Z</dcterms:modified>
  <cp:revision>8</cp:revision>
  <dc:subject/>
  <dc:title>제 6장 사회교과교육</dc:title>
</cp:coreProperties>
</file>